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D0463-6B6A-4840-8E66-6063C03BF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A6B15-229B-4694-BED2-983B4209C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B0DAB-D4E0-4EE4-82A4-E9ADC35EF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3921D-9EAE-486E-929D-F95CB9650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D8791-A937-4100-8BC6-5F92C00A3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C275B-7029-422D-B77A-0E6004217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D45A1-634C-439D-A2FD-FF770CFB8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8B3B5-3D15-4723-91CC-B429853B0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483C7-3605-4E36-BE09-EE26B3B9E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8355C-B8B2-48B9-B98D-437A8B4B7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7651E-BD67-45D4-8106-97C4459F4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10C6D-3038-4C64-99F5-EAAFC4F19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CB240-73DB-4F35-8E1C-A98640105B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99cc00"/>
                </a:solidFill>
                <a:latin typeface="Arial"/>
              </a:rPr>
              <a:t>Analysis Options</a:t>
            </a:r>
            <a:br>
              <a:rPr sz="6000"/>
            </a:br>
            <a:r>
              <a:rPr b="1" lang="en-US" sz="6000" spc="-1" strike="noStrike">
                <a:solidFill>
                  <a:srgbClr val="99cc00"/>
                </a:solidFill>
                <a:latin typeface="Arial"/>
              </a:rPr>
              <a:t>for Control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143000" y="1523880"/>
            <a:ext cx="6781680" cy="12956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1219320" y="2971800"/>
            <a:ext cx="670536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685800" y="3657600"/>
            <a:ext cx="7924680" cy="11620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685800" y="1523880"/>
            <a:ext cx="792468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762120" y="2514600"/>
            <a:ext cx="7924680" cy="116208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762120" y="380880"/>
            <a:ext cx="7924680" cy="21337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762120" y="3809880"/>
            <a:ext cx="792468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685800" y="1676520"/>
            <a:ext cx="7924680" cy="213336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685800" y="3809880"/>
            <a:ext cx="792468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609480" y="609480"/>
            <a:ext cx="7925040" cy="21337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609480" y="2743200"/>
            <a:ext cx="7925040" cy="9144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685800" y="3809880"/>
            <a:ext cx="784872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685800" y="3657600"/>
            <a:ext cx="7924680" cy="9907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685800" y="1447920"/>
            <a:ext cx="792468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762120" y="2590920"/>
            <a:ext cx="7924680" cy="99036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762120" y="609480"/>
            <a:ext cx="7924680" cy="198144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762120" y="3657600"/>
            <a:ext cx="792468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838080" y="685800"/>
            <a:ext cx="746784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143000" y="1828800"/>
            <a:ext cx="7162920" cy="21337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1143000" y="1371600"/>
            <a:ext cx="716292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Times New Roman"/>
              </a:rPr>
              <a:t>Another Analysis Op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1143000" y="3886200"/>
            <a:ext cx="716292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066680" y="762120"/>
            <a:ext cx="7315200" cy="472428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1066680" y="5257800"/>
            <a:ext cx="73152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219320" y="1523880"/>
            <a:ext cx="670536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838080" y="838080"/>
            <a:ext cx="746784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914400" y="762120"/>
            <a:ext cx="7315200" cy="407016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914400" y="4800600"/>
            <a:ext cx="731520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838080" y="1295280"/>
            <a:ext cx="75438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685800" y="838080"/>
            <a:ext cx="7467480" cy="2286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685800" y="3276720"/>
            <a:ext cx="746748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62120" y="2590920"/>
            <a:ext cx="7149960" cy="10666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762120" y="1828800"/>
            <a:ext cx="71625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149960" cy="106668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914400" y="838080"/>
            <a:ext cx="7162920" cy="7621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914400" y="2768760"/>
            <a:ext cx="7162920" cy="302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762120" y="2666880"/>
            <a:ext cx="7467480" cy="11750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762120" y="1371600"/>
            <a:ext cx="746748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762120" y="1828800"/>
            <a:ext cx="7467480" cy="117468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62120" y="533520"/>
            <a:ext cx="7467480" cy="129528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762120" y="3124080"/>
            <a:ext cx="746748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609480" y="1600200"/>
            <a:ext cx="800100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533520" y="609480"/>
            <a:ext cx="8001000" cy="312444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533520" y="3809880"/>
            <a:ext cx="800100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914400" y="762120"/>
            <a:ext cx="7238880" cy="29718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914400" y="3733920"/>
            <a:ext cx="723888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838080" y="609480"/>
            <a:ext cx="762012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685800" y="380880"/>
            <a:ext cx="7924680" cy="21337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685800" y="3505320"/>
            <a:ext cx="7924680" cy="28191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685800" y="2514600"/>
            <a:ext cx="7924680" cy="9907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6019920" y="5486400"/>
            <a:ext cx="200664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685800" y="3505320"/>
            <a:ext cx="7924680" cy="30351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685800" y="380880"/>
            <a:ext cx="7924680" cy="21337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685800" y="2514600"/>
            <a:ext cx="7924680" cy="9907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5562720" y="4572000"/>
            <a:ext cx="281916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762120" y="2209680"/>
            <a:ext cx="7924680" cy="36514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762120" y="762120"/>
            <a:ext cx="7924680" cy="144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90720" y="2286000"/>
            <a:ext cx="708660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143000" y="990720"/>
            <a:ext cx="7086600" cy="21333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1143000" y="3276720"/>
            <a:ext cx="708660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143000" y="2438280"/>
            <a:ext cx="678168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6T20:58:15Z</dcterms:created>
  <dc:creator>david g. kleinbaum</dc:creator>
  <dc:description/>
  <dc:language>en-US</dc:language>
  <cp:lastModifiedBy>david g kleinbaum</cp:lastModifiedBy>
  <dcterms:modified xsi:type="dcterms:W3CDTF">2003-11-05T14:24:34Z</dcterms:modified>
  <cp:revision>43</cp:revision>
  <dc:subject/>
  <dc:title>PowerPoint Presentation</dc:title>
</cp:coreProperties>
</file>